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565-4858-453B-BCD9-77548B5F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268-F04D-44E2-AB84-43D16DA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46C-865D-489E-AABD-F104B982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5FB-96E3-4110-99B6-01AFFD63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FF5-CE6C-485F-9B87-E4309D5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0B7-04BF-4ACB-BBE7-2C93856A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524-060D-4B3F-B321-6E4B1F7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8FB-9AA6-4492-9BC9-51928EC0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657-4F22-48E3-B4DF-B7A5473C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2B3-B25E-4BA0-96DC-D63B890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5BD-5F12-4A82-8698-78DE248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26E-5978-4D2F-AE68-4993CA4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48E-0616-4B65-A3FE-374B98F17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groe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i Ko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nov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ten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486400"/>
            <a:ext cx="3487680" cy="51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6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315200" cy="50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UF 3: Releases en pa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486400"/>
            <a:ext cx="1524240" cy="762120"/>
          </a:xfrm>
          <a:prstGeom prst="wedgeRoundRectCallout">
            <a:avLst>
              <a:gd name="adj1" fmla="val -105208"/>
              <a:gd name="adj2" fmla="val 15416"/>
              <a:gd name="adj3" fmla="val 16667"/>
            </a:avLst>
          </a:prstGeom>
          <a:solidFill>
            <a:srgbClr val="00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e releas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b.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572000"/>
            <a:ext cx="1447920" cy="685800"/>
          </a:xfrm>
          <a:prstGeom prst="wedgeRoundRectCallout">
            <a:avLst>
              <a:gd name="adj1" fmla="val -106250"/>
              <a:gd name="adj2" fmla="val 37268"/>
              <a:gd name="adj3" fmla="val 1666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e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uf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3581280"/>
            <a:ext cx="1524240" cy="685800"/>
          </a:xfrm>
          <a:prstGeom prst="wedgeRoundRectCallout">
            <a:avLst>
              <a:gd name="adj1" fmla="val -99898"/>
              <a:gd name="adj2" fmla="val 52314"/>
              <a:gd name="adj3" fmla="val 16667"/>
            </a:avLst>
          </a:prstGeom>
          <a:solidFill>
            <a:srgbClr val="00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e rele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n0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2514600"/>
            <a:ext cx="1524240" cy="685800"/>
          </a:xfrm>
          <a:prstGeom prst="wedgeRoundRectCallout">
            <a:avLst>
              <a:gd name="adj1" fmla="val -317606"/>
              <a:gd name="adj2" fmla="val 194907"/>
              <a:gd name="adj3" fmla="val 1666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e patch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g0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kor</cp:lastModifiedBy>
  <dcterms:modified xsi:type="dcterms:W3CDTF">2009-11-24T17:02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